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FDF-345E-4BEC-A088-DAB99ADF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BF4-B05E-4B85-8BBF-B48AC629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BFA-B58C-4FB1-AD06-5F3BBAFD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52D-6118-4A59-9C8E-E34A6464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115D-699A-45E3-B3CC-E0B22AFB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6891-55C3-45B3-A86E-33123FEA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5005-41D9-4577-A27D-FDF0A62B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D576-76BE-473E-B69E-C2ABC017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451A-F4FE-4BCC-B970-D477E7B0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55DD-D461-4680-ABED-C6F22C93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7584-3D26-4B62-A329-F60FFB03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664-4EDF-4C74-B43D-B88135CE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4208-FDF3-4FDF-86BD-D7930274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5399-A57F-4F5F-AFF3-0D7BF09A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5D36-5998-46E2-ABE3-2F0254D3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1953-154B-4958-B362-47C8DCC6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C903-77BC-46A9-93ED-59D233B2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9DB-EEC4-49AC-84E2-B34729DD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771-6101-48F5-BDDF-3F8563CA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055-5722-4D8A-87DB-F0AB7460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D8F-5519-4E85-ACC1-CE31773E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F62-1C34-4C0F-BCA5-9A0515B1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280-84FE-47F3-A82D-24AF188C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6E6-6EE8-49FB-A8B2-87F737AF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CED0-39CA-4D3F-9266-890A06820A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7380-3EEC-45B7-84D4-5A462DC92B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The State of the Corporation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ariageD"/>
              </a:rPr>
              <a:t>Youth Parliament  of Manito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General Meeting - 30 March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y Dhillon, Premier (Chairper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7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will YPM look like in 15/20 year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Cabinet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PM into digital age – manuals on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YPM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rance (YPM Legal Guardi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unting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ing Endowment f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ing plans for Western’s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7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. Fundraising and Corporate Develop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 a major annual fundraising ev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ild a YPM marketing strate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ild personal and professional ties with corpor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ld small but effective fundraising 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7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4. Alumni Rel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inging our alumni back to YP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umni recep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umni reun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ild a strong alumni 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ablish ways for YPM to make alumni feel welco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7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5. Development of YPM commun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ilding a YPM community with a role fo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rrent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umn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rpor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munity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 YPs across Can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 organiz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itici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ural Cau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How You Can Help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lize that the organization will only progress if you want it 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tend event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ly to cabine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t involved in committee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ecutive can’t do it alone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are the members!  We need you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ognized successes and challe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s set for new initiati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008: Already a bright horiz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aker’s Nigh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ready have begun to put many goals into 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the SOTC addres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y is the address importa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tate of the Corpo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als and Benchmar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hat is the SOTC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ate of the Corporation (SOTC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ddress is a speech by the Premier at the AGM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TC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utlines the current state of affairs and future direction for the members of YP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hy give the address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share our plan for the upcoming ye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define our go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re answerable to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610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, what </a:t>
            </a:r>
            <a:r>
              <a:rPr b="0" i="1" lang="en-US" sz="4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is </a:t>
            </a:r>
            <a:r>
              <a:rPr b="0" lang="en-US" sz="4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the state of our Corporation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ccess in 2007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ring Session, Brandon, Manitob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ment of Cabinet Mee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sonal Develop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ral development go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rease in Rural members at Winter se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cGregor BBQ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ed fundraising reven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stration numbers higher than e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610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, what </a:t>
            </a:r>
            <a:r>
              <a:rPr b="0" i="1" lang="en-US" sz="4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is </a:t>
            </a:r>
            <a:r>
              <a:rPr b="0" lang="en-US" sz="4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the state of our Corporation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allenges in 2007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ership development within cabinet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ited success in fundrais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umni rel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7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ness of our Membershi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-4190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-4190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binet(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-4190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ing a structure of YPM that will help ensure future su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raising and Corporate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ni Re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ing a “YPM communit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7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 Wellness of Member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sure Executive can handle the work load and efforts are acknowledg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ing sure cabinet(s) are well trained to do their job(s) and provided with the proper to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anding on opportunities for our membersh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rough YP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rough other organiz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7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Developing a YPM structure for the fu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ild on past initiatives and add mo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5:46:54Z</dcterms:created>
  <dc:creator>Youth Parliament of Manitoba</dc:creator>
  <dc:description>2006 Annual General Meeting of Youth Parliament of Manitoba Inc., held on 30 April 2006 at room 176 Helen Glass Bldg, University of Manitoba, Winnipeg, Manitoba, Canada.</dc:description>
  <dc:language>en-US</dc:language>
  <cp:lastModifiedBy>Amy</cp:lastModifiedBy>
  <dcterms:modified xsi:type="dcterms:W3CDTF">2008-03-30T18:11:22Z</dcterms:modified>
  <cp:revision>26</cp:revision>
  <dc:subject/>
  <dc:title>2006 AGM State of the Corporation</dc:title>
</cp:coreProperties>
</file>