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30C3-8723-4955-A0A8-0CC854C22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D48A-B07E-4160-9F74-60797BA02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8E18-52F1-4249-891B-98487D8C8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DD0E-E7DF-4184-9133-6FD981C11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B42BB-8D23-4651-8692-7071F4F65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267B8-43FA-41A2-979B-C2D57DD4C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F526F-AF1A-4E1B-A515-55D3786A6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3D6A6-D01E-4595-9141-7D291EA64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E3C12-1EAC-4641-A6CE-ECE8223AF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DB559-AB0D-4712-93FE-9CC70C6A9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287AC-1A38-4F43-AF0F-E830C38CF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E762-B6F7-43FD-90B1-010FE5116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320D8-E8D4-4B44-9425-90E4A16C7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9EC15-15F1-4D67-AC08-A4FE09949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C6AB2-87FA-4FAF-93A7-416C35274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D8A02-5046-40EB-AA9B-B576ED81B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C1393-1281-4B88-A6B4-9FBB3C7A9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5DA2-997E-4C7D-9FB9-81F5468F9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43DC-BA22-43EF-8DB3-09EC141BB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E002-20F7-41BE-9C10-B8BC28C0C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91E6-C60D-44B3-A645-90A155D36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8A5C-0FD6-496F-A2DB-5FEA3FBC7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65F6-9BAC-43D8-927E-EED78A658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9E1F-0005-4AF4-BBEC-7B91AD834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ff99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6B147-EF56-4718-AA2D-CF7EDAB1B517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9BCA7-B18F-4C69-92B2-4129414297C8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ff9900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Garamond"/>
              </a:rPr>
              <a:t>The State of the Corporation</a:t>
            </a:r>
            <a:endParaRPr b="0" lang="en-US" sz="5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ariageD"/>
              </a:rPr>
              <a:t>Youth Parliament  of Manitob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nual General Meeting - 18 March 200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atie Szilagyi, Premier (Chairpers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Goals for YPM86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2. Fundraising and Capital Campaig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ew Corporate Development Cabinet Posi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224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nhance Fundraising Capabiliti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2240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evelop Infrastructure for Capital Campaig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224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Benchmarks of Success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2. Fundraising and Capital Campaig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839880" indent="-49536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stablish Minister of Corporate Developmen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39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39880" indent="-49536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nduct feasibility study on capital campaig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90440" indent="-41904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velop framework for contribution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090440" indent="-41904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Begin campaig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09044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39880" indent="-49536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ncrease fundraising revenues to $2000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Goals for YPM86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3. Professionaliza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ategic Plann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224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eserving Institutional Memor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224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motional Materia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Benchmarks of Success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3. Professionaliza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839880" indent="-49536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stablish BoD policy manua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39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39880" indent="-49536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nhance online resource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90440" indent="-41904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reate YPM Wiki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090440" indent="-41904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Re-launch YPM websit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09044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39880" indent="-49536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reate and distribute YPM brochu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Goals for YPM86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4. Personal Developmen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abine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nhancing leadership capacity and specific abiliti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stablish committees (e.g. Fundraising Committee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mproved “Personal Development” modules at meeting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cial Even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Broaden scope of events: YPM Does “…..”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ocial networking: YPM on Faceboo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ncrease awareness of social and community issu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Benchmarks of Success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me 4: Personal Developmen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nduct four development modules at cabinet meeting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39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st more regular YPM social events (6 total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39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stablish two YPM committe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90440" indent="-41904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embership Recruitment Committe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090440" indent="-41904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undraising Committee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How You Can Help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Join committees!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ttend events!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pply to cabinet!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xecutive can’t do it alone!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You are the members!  We need you!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Conclusion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ecognized successes and challeng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oals set for new initiativ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2007: Already a bright horiz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lanning for Spring Session well underwa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nhanced relationships with other YPs in Canad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Outline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hat is the SOTC address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hy is the address important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 State of the Corpora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Goals and Benchmark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What is the SOTC?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836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tate of the Corporation (SOTC)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address is a speech by the Premier at the AGM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OTC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outlines the current state of affairs and future direction for the members of YPM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Why give the address?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o share our plan for the upcoming yea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o define our goal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We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are answerable to 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you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277920"/>
            <a:ext cx="8610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So, what </a:t>
            </a:r>
            <a:r>
              <a:rPr b="0" i="1" lang="en-US" sz="4200" spc="-1" strike="noStrike">
                <a:solidFill>
                  <a:srgbClr val="ffffff"/>
                </a:solidFill>
                <a:latin typeface="Garamond"/>
                <a:ea typeface="ＭＳ Ｐゴシック"/>
              </a:rPr>
              <a:t>is </a:t>
            </a:r>
            <a:r>
              <a:rPr b="0" lang="en-US" sz="4200" spc="-1" strike="noStrike">
                <a:solidFill>
                  <a:srgbClr val="ffffff"/>
                </a:solidFill>
                <a:latin typeface="Garamond"/>
                <a:ea typeface="ＭＳ Ｐゴシック"/>
              </a:rPr>
              <a:t>the state of our Corporation?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uccess in 2006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ecutive “re-birth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y means of two Millennium Gra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nvestigated our histor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veloped Cabinet Retrea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alization of Skownan proj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ural development goa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irst ever Spring Session (27-29 April 2007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ctive Rural Caucu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520" y="277920"/>
            <a:ext cx="8610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So, what </a:t>
            </a:r>
            <a:r>
              <a:rPr b="0" i="1" lang="en-US" sz="4200" spc="-1" strike="noStrike">
                <a:solidFill>
                  <a:srgbClr val="ffffff"/>
                </a:solidFill>
                <a:latin typeface="Garamond"/>
                <a:ea typeface="ＭＳ Ｐゴシック"/>
              </a:rPr>
              <a:t>is </a:t>
            </a:r>
            <a:r>
              <a:rPr b="0" lang="en-US" sz="4200" spc="-1" strike="noStrike">
                <a:solidFill>
                  <a:srgbClr val="ffffff"/>
                </a:solidFill>
                <a:latin typeface="Garamond"/>
                <a:ea typeface="ＭＳ Ｐゴシック"/>
              </a:rPr>
              <a:t>the state of our Corporation?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hallenges in 2006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ow registration for 85th Sess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imited success in fundrais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cognized loss of “institutional memory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Goals for YPM86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839880" indent="-49536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mbership Recruitmen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39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39880" indent="-49536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draising and Capital Campaig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39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39880" indent="-49536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fessionaliza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39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39880" indent="-49536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sonal Developmen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Goals for YPM86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1. Membership Recruitmen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ild Partnerships with Alli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224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ore Advertis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224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ream Initiative: Promotional Video!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Benchmarks of Success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1. Membership Recruitmen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839880" indent="-49536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70 members at 86th Winter Sess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39880" indent="-49536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atabase of Allie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90440" indent="-41904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50 high school teach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090440" indent="-41904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15 MLA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39880" indent="-49536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rticipate in 3 recruitment even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8T15:46:54Z</dcterms:created>
  <dc:creator>Youth Parliament of Manitoba</dc:creator>
  <dc:description>2007 Annual General Meeting of Youth Parliament of Manitoba Inc., held on 18 March 2007 at room 176 Helen Glass Bldg, University of Manitoba, Winnipeg, Manitoba, Canada.</dc:description>
  <dc:language>en-US</dc:language>
  <cp:lastModifiedBy>Katie Szilagyi</cp:lastModifiedBy>
  <dcterms:modified xsi:type="dcterms:W3CDTF">2007-03-18T07:17:05Z</dcterms:modified>
  <cp:revision>24</cp:revision>
  <dc:subject/>
  <dc:title>2007 AGM State of the Corporation</dc:title>
</cp:coreProperties>
</file>